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4.wmf" ContentType="image/x-wmf"/>
  <Override PartName="/ppt/media/image6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46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10.wmf" ContentType="image/x-wmf"/>
  <Override PartName="/ppt/media/image47.wmf" ContentType="image/x-wmf"/>
  <Override PartName="/ppt/media/image13.wmf" ContentType="image/x-wmf"/>
  <Override PartName="/ppt/media/image5.png" ContentType="image/png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40.wmf" ContentType="image/x-wmf"/>
  <Override PartName="/ppt/media/image7.png" ContentType="image/png"/>
  <Override PartName="/ppt/media/image15.wmf" ContentType="image/x-wmf"/>
  <Override PartName="/ppt/embeddings/oleObject5.docx" ContentType="application/vnd.openxmlformats-officedocument.wordprocessingml.document"/>
  <Override PartName="/ppt/embeddings/oleObject5.bin" ContentType="application/vnd.openxmlformats-officedocument.oleObject"/>
  <Override PartName="/ppt/embeddings/oleObject4.docx" ContentType="application/vnd.openxmlformats-officedocument.wordprocessingml.document"/>
  <Override PartName="/ppt/embeddings/oleObject11.bin" ContentType="application/vnd.openxmlformats-officedocument.oleObject"/>
  <Override PartName="/ppt/embeddings/oleObject6.docx" ContentType="application/vnd.openxmlformats-officedocument.wordprocessingml.document"/>
  <Override PartName="/ppt/embeddings/oleObject9.bin" ContentType="application/vnd.openxmlformats-officedocument.oleObject"/>
  <Override PartName="/ppt/embeddings/oleObject10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6BFD-1D3C-4483-AF97-C05888D604A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C1EA-6307-4B3B-8482-97B4D7014E1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8B49-6EFC-4B45-AB91-72C535E0579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091-A9FA-4245-ADD4-E08F8DF7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019-E343-460E-838F-720FA7C0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F4E-0967-4460-A807-D1D28584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B3A-E627-4C9E-8F50-B2EA766A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8547-22A4-4D2B-90D6-C2F7CA22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3424-B063-46A9-9883-AD88ED00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515-EED0-4F62-82CB-496DCFDE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CDB9-EA20-40D6-8883-587727FD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7D80-F23F-42FC-B430-1D85C89B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08B-2D26-4627-AE45-C7EA31E2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AD5-7CC5-4AD1-B3E9-287AD8D7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A0D-F04C-4B10-A230-AA82E1C9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2B2A-AF87-49AC-A394-848E3B30BD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package" Target="../embeddings/oleObject2.docx"/><Relationship Id="rId9" Type="http://schemas.openxmlformats.org/officeDocument/2006/relationships/image" Target="../media/image8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9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0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6.wm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1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1.wmf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3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34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35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36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7.wmf"/><Relationship Id="rId18" Type="http://schemas.openxmlformats.org/officeDocument/2006/relationships/package" Target="../embeddings/oleObject7.docx"/><Relationship Id="rId19" Type="http://schemas.openxmlformats.org/officeDocument/2006/relationships/image" Target="../media/image38.wmf"/><Relationship Id="rId20" Type="http://schemas.openxmlformats.org/officeDocument/2006/relationships/package" Target="../embeddings/oleObject8.docx"/><Relationship Id="rId21" Type="http://schemas.openxmlformats.org/officeDocument/2006/relationships/image" Target="../media/image39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40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41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42.wmf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3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5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4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7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48.wmf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9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2987640" y="30211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3.2.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定积分的性质及微积分基本公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3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3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4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4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50"/>
          <p:cNvSpPr/>
          <p:nvPr/>
        </p:nvSpPr>
        <p:spPr>
          <a:xfrm>
            <a:off x="2340000" y="2951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积分基本性质，牛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莱布尼兹公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51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5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5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539640" y="1125360"/>
          <a:ext cx="8115480" cy="1154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125360"/>
                    <a:ext cx="811548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763920" y="693360"/>
            <a:ext cx="20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定积分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30"/>
          <p:cNvGraphicFramePr/>
          <p:nvPr/>
        </p:nvGraphicFramePr>
        <p:xfrm>
          <a:off x="971640" y="1989000"/>
          <a:ext cx="6669000" cy="1008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75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71640" y="1989000"/>
                    <a:ext cx="666900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31"/>
          <p:cNvGraphicFramePr/>
          <p:nvPr/>
        </p:nvGraphicFramePr>
        <p:xfrm>
          <a:off x="546120" y="3497400"/>
          <a:ext cx="8058240" cy="10443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77" name="Object 3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6120" y="3497400"/>
                    <a:ext cx="805824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矩形 26"/>
          <p:cNvSpPr/>
          <p:nvPr/>
        </p:nvSpPr>
        <p:spPr>
          <a:xfrm>
            <a:off x="1332000" y="5373720"/>
            <a:ext cx="6119640" cy="3682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注意：性质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还可以推广到有限多个函数的代数和的情形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33"/>
          <p:cNvGraphicFramePr/>
          <p:nvPr/>
        </p:nvGraphicFramePr>
        <p:xfrm>
          <a:off x="1763640" y="4221000"/>
          <a:ext cx="5832720" cy="797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" name="Object 3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63640" y="4221000"/>
                    <a:ext cx="58327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35"/>
          <p:cNvSpPr/>
          <p:nvPr/>
        </p:nvSpPr>
        <p:spPr>
          <a:xfrm>
            <a:off x="4465440" y="9532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347360" y="1054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6"/>
          <p:cNvGraphicFramePr/>
          <p:nvPr/>
        </p:nvGraphicFramePr>
        <p:xfrm>
          <a:off x="2987640" y="2637000"/>
          <a:ext cx="2448000" cy="777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5" name="Object 3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987640" y="2637000"/>
                    <a:ext cx="24480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8"/>
          <p:cNvSpPr/>
          <p:nvPr/>
        </p:nvSpPr>
        <p:spPr>
          <a:xfrm>
            <a:off x="4419000" y="715320"/>
            <a:ext cx="30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圆角矩形 2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9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9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9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0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7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763920" y="693360"/>
            <a:ext cx="20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定积分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32"/>
          <p:cNvGraphicFramePr/>
          <p:nvPr/>
        </p:nvGraphicFramePr>
        <p:xfrm>
          <a:off x="250920" y="1700280"/>
          <a:ext cx="8651880" cy="903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1" name="Object 3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0920" y="1700280"/>
                    <a:ext cx="86518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33"/>
          <p:cNvGraphicFramePr/>
          <p:nvPr/>
        </p:nvGraphicFramePr>
        <p:xfrm>
          <a:off x="250920" y="3357720"/>
          <a:ext cx="7777080" cy="10299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13" name="Object 3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920" y="3357720"/>
                    <a:ext cx="7777080" cy="10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7"/>
          <p:cNvGraphicFramePr/>
          <p:nvPr/>
        </p:nvGraphicFramePr>
        <p:xfrm>
          <a:off x="1403280" y="2421000"/>
          <a:ext cx="6408720" cy="758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03280" y="2421000"/>
                    <a:ext cx="64087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9"/>
          <p:cNvSpPr/>
          <p:nvPr/>
        </p:nvSpPr>
        <p:spPr>
          <a:xfrm>
            <a:off x="4451040" y="734400"/>
            <a:ext cx="241560" cy="246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0"/>
          <p:cNvGraphicFramePr/>
          <p:nvPr/>
        </p:nvGraphicFramePr>
        <p:xfrm>
          <a:off x="2050920" y="4221000"/>
          <a:ext cx="4251600" cy="720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0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050920" y="4221000"/>
                    <a:ext cx="42516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2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2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2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3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1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4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3" name="Object 2"/>
          <p:cNvGraphicFramePr/>
          <p:nvPr/>
        </p:nvGraphicFramePr>
        <p:xfrm>
          <a:off x="395280" y="981000"/>
          <a:ext cx="8481960" cy="1154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981000"/>
                    <a:ext cx="848196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7"/>
          <p:cNvGraphicFramePr/>
          <p:nvPr/>
        </p:nvGraphicFramePr>
        <p:xfrm>
          <a:off x="611280" y="2060640"/>
          <a:ext cx="7851600" cy="10810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46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2060640"/>
                    <a:ext cx="78516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0"/>
          <p:cNvGraphicFramePr/>
          <p:nvPr/>
        </p:nvGraphicFramePr>
        <p:xfrm>
          <a:off x="1619280" y="2781360"/>
          <a:ext cx="2881440" cy="896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8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19280" y="2781360"/>
                    <a:ext cx="288144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31"/>
          <p:cNvGraphicFramePr/>
          <p:nvPr/>
        </p:nvGraphicFramePr>
        <p:xfrm>
          <a:off x="2050920" y="3789360"/>
          <a:ext cx="4033800" cy="851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0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050920" y="3789360"/>
                    <a:ext cx="40338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32"/>
          <p:cNvGraphicFramePr/>
          <p:nvPr/>
        </p:nvGraphicFramePr>
        <p:xfrm>
          <a:off x="2124000" y="4941720"/>
          <a:ext cx="3672000" cy="914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2" name="Object 3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124000" y="4941720"/>
                    <a:ext cx="3672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5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5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6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6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51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6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7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5" name="Object 28"/>
          <p:cNvGraphicFramePr/>
          <p:nvPr/>
        </p:nvGraphicFramePr>
        <p:xfrm>
          <a:off x="395280" y="836640"/>
          <a:ext cx="8280360" cy="1392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76" name="Object 2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836640"/>
                    <a:ext cx="828036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29"/>
          <p:cNvGraphicFramePr/>
          <p:nvPr/>
        </p:nvGraphicFramePr>
        <p:xfrm>
          <a:off x="826920" y="1989000"/>
          <a:ext cx="4073760" cy="10875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78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6920" y="1989000"/>
                    <a:ext cx="40737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6"/>
          <p:cNvGraphicFramePr/>
          <p:nvPr/>
        </p:nvGraphicFramePr>
        <p:xfrm>
          <a:off x="1403280" y="2492280"/>
          <a:ext cx="1621080" cy="860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03280" y="2492280"/>
                    <a:ext cx="1621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7"/>
          <p:cNvGraphicFramePr/>
          <p:nvPr/>
        </p:nvGraphicFramePr>
        <p:xfrm>
          <a:off x="3132000" y="2565360"/>
          <a:ext cx="3521160" cy="816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32000" y="2565360"/>
                    <a:ext cx="352116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8"/>
          <p:cNvGraphicFramePr/>
          <p:nvPr/>
        </p:nvGraphicFramePr>
        <p:xfrm>
          <a:off x="3059280" y="3500280"/>
          <a:ext cx="3606480" cy="784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4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059280" y="3500280"/>
                    <a:ext cx="360648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9"/>
          <p:cNvGraphicFramePr/>
          <p:nvPr/>
        </p:nvGraphicFramePr>
        <p:xfrm>
          <a:off x="2916360" y="4581360"/>
          <a:ext cx="1942920" cy="432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87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916360" y="4581360"/>
                    <a:ext cx="19429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圆角矩形 2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9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9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9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9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1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0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0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0" name="Object 28"/>
          <p:cNvGraphicFramePr/>
          <p:nvPr/>
        </p:nvGraphicFramePr>
        <p:xfrm>
          <a:off x="401760" y="833400"/>
          <a:ext cx="8245440" cy="13813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1" name="Object 2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1760" y="833400"/>
                    <a:ext cx="824544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4"/>
          <p:cNvGraphicFramePr/>
          <p:nvPr/>
        </p:nvGraphicFramePr>
        <p:xfrm>
          <a:off x="1254240" y="1557360"/>
          <a:ext cx="3543120" cy="793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4240" y="1557360"/>
                    <a:ext cx="354312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5"/>
          <p:cNvGraphicFramePr/>
          <p:nvPr/>
        </p:nvGraphicFramePr>
        <p:xfrm>
          <a:off x="1332000" y="2421000"/>
          <a:ext cx="5846760" cy="1157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332000" y="2421000"/>
                    <a:ext cx="584676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6"/>
          <p:cNvGraphicFramePr/>
          <p:nvPr/>
        </p:nvGraphicFramePr>
        <p:xfrm>
          <a:off x="1332000" y="3789360"/>
          <a:ext cx="4919400" cy="817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7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332000" y="3789360"/>
                    <a:ext cx="49194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8"/>
          <p:cNvGraphicFramePr/>
          <p:nvPr/>
        </p:nvGraphicFramePr>
        <p:xfrm>
          <a:off x="5364000" y="1773360"/>
          <a:ext cx="820800" cy="458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20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64000" y="1773360"/>
                    <a:ext cx="8208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9"/>
          <p:cNvGraphicFramePr/>
          <p:nvPr/>
        </p:nvGraphicFramePr>
        <p:xfrm>
          <a:off x="7308720" y="2781360"/>
          <a:ext cx="820800" cy="458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2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308720" y="2781360"/>
                    <a:ext cx="8208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10"/>
          <p:cNvGraphicFramePr/>
          <p:nvPr/>
        </p:nvGraphicFramePr>
        <p:xfrm>
          <a:off x="6516720" y="4005360"/>
          <a:ext cx="820800" cy="458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24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516720" y="4005360"/>
                    <a:ext cx="8208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2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3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3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3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52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4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4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7" name="Object 2"/>
          <p:cNvGraphicFramePr/>
          <p:nvPr/>
        </p:nvGraphicFramePr>
        <p:xfrm>
          <a:off x="611280" y="765000"/>
          <a:ext cx="8137440" cy="935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4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765000"/>
                    <a:ext cx="81374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27"/>
          <p:cNvGraphicFramePr/>
          <p:nvPr/>
        </p:nvGraphicFramePr>
        <p:xfrm>
          <a:off x="468360" y="1557360"/>
          <a:ext cx="6651720" cy="1008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50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8360" y="1557360"/>
                    <a:ext cx="6651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28"/>
          <p:cNvGraphicFramePr/>
          <p:nvPr/>
        </p:nvGraphicFramePr>
        <p:xfrm>
          <a:off x="684360" y="2421000"/>
          <a:ext cx="7632720" cy="11602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52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4360" y="2421000"/>
                    <a:ext cx="763272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29"/>
          <p:cNvGraphicFramePr/>
          <p:nvPr/>
        </p:nvGraphicFramePr>
        <p:xfrm>
          <a:off x="611280" y="4724280"/>
          <a:ext cx="7934400" cy="14018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54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1280" y="4724280"/>
                    <a:ext cx="79344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28"/>
          <p:cNvGraphicFramePr/>
          <p:nvPr/>
        </p:nvGraphicFramePr>
        <p:xfrm>
          <a:off x="755640" y="3357720"/>
          <a:ext cx="6481800" cy="84456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256" name="Object 2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55640" y="3357720"/>
                    <a:ext cx="64818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31"/>
          <p:cNvGraphicFramePr/>
          <p:nvPr/>
        </p:nvGraphicFramePr>
        <p:xfrm>
          <a:off x="4140360" y="2781360"/>
          <a:ext cx="4427280" cy="401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8" name="Object 3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40360" y="2781360"/>
                    <a:ext cx="442728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28"/>
          <p:cNvGraphicFramePr/>
          <p:nvPr/>
        </p:nvGraphicFramePr>
        <p:xfrm>
          <a:off x="1187280" y="3860640"/>
          <a:ext cx="4557960" cy="581040"/>
        </p:xfrm>
        <a:graphic>
          <a:graphicData uri="http://schemas.openxmlformats.org/presentationml/2006/ole">
            <p:oleObj progId="Word.Document.12" r:id="rId18" spid="">
              <p:embed/>
              <p:pic>
                <p:nvPicPr>
                  <p:cNvPr id="260" name="Object 2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187280" y="3860640"/>
                    <a:ext cx="455796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28"/>
          <p:cNvGraphicFramePr/>
          <p:nvPr/>
        </p:nvGraphicFramePr>
        <p:xfrm>
          <a:off x="1187280" y="4365720"/>
          <a:ext cx="1311480" cy="566640"/>
        </p:xfrm>
        <a:graphic>
          <a:graphicData uri="http://schemas.openxmlformats.org/presentationml/2006/ole">
            <p:oleObj progId="Word.Document.12" r:id="rId20" spid="">
              <p:embed/>
              <p:pic>
                <p:nvPicPr>
                  <p:cNvPr id="262" name="Object 28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187280" y="4365720"/>
                    <a:ext cx="13114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34"/>
          <p:cNvGraphicFramePr/>
          <p:nvPr/>
        </p:nvGraphicFramePr>
        <p:xfrm>
          <a:off x="5292720" y="3716280"/>
          <a:ext cx="1582920" cy="507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65" name="Object 34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292720" y="3716280"/>
                    <a:ext cx="1582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36"/>
          <p:cNvGraphicFramePr/>
          <p:nvPr/>
        </p:nvGraphicFramePr>
        <p:xfrm>
          <a:off x="2268360" y="4365720"/>
          <a:ext cx="3456000" cy="4791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68" name="Object 3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268360" y="4365720"/>
                    <a:ext cx="34560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38"/>
          <p:cNvGraphicFramePr/>
          <p:nvPr/>
        </p:nvGraphicFramePr>
        <p:xfrm>
          <a:off x="1116000" y="5950080"/>
          <a:ext cx="3270240" cy="3762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70" name="Object 38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116000" y="5950080"/>
                    <a:ext cx="32702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7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7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7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8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60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8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9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3" name="Object 2"/>
          <p:cNvGraphicFramePr/>
          <p:nvPr/>
        </p:nvGraphicFramePr>
        <p:xfrm>
          <a:off x="611280" y="1268280"/>
          <a:ext cx="8137440" cy="1081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9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1268280"/>
                    <a:ext cx="813744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矩形 17"/>
          <p:cNvSpPr/>
          <p:nvPr/>
        </p:nvSpPr>
        <p:spPr>
          <a:xfrm>
            <a:off x="1156320" y="76500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微积分基本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Object 2"/>
          <p:cNvGraphicFramePr/>
          <p:nvPr/>
        </p:nvGraphicFramePr>
        <p:xfrm>
          <a:off x="395280" y="3284640"/>
          <a:ext cx="8280360" cy="11952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97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3284640"/>
                    <a:ext cx="828036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29"/>
          <p:cNvGraphicFramePr/>
          <p:nvPr/>
        </p:nvGraphicFramePr>
        <p:xfrm>
          <a:off x="2700360" y="2060640"/>
          <a:ext cx="3384360" cy="807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0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00360" y="2060640"/>
                    <a:ext cx="338436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2"/>
          <p:cNvGraphicFramePr/>
          <p:nvPr/>
        </p:nvGraphicFramePr>
        <p:xfrm>
          <a:off x="900000" y="2781360"/>
          <a:ext cx="7150320" cy="8636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00000" y="2781360"/>
                    <a:ext cx="7150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Object 32"/>
          <p:cNvGraphicFramePr/>
          <p:nvPr/>
        </p:nvGraphicFramePr>
        <p:xfrm>
          <a:off x="1908000" y="4221000"/>
          <a:ext cx="5977080" cy="817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05" name="Object 3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08000" y="4221000"/>
                    <a:ext cx="597708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2"/>
          <p:cNvGraphicFramePr/>
          <p:nvPr/>
        </p:nvGraphicFramePr>
        <p:xfrm>
          <a:off x="395280" y="5157720"/>
          <a:ext cx="8280360" cy="113364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307" name="Object 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5280" y="5157720"/>
                    <a:ext cx="82803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1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1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1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1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56"/>
          <p:cNvSpPr/>
          <p:nvPr/>
        </p:nvSpPr>
        <p:spPr>
          <a:xfrm>
            <a:off x="4455000" y="4428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性质及微积分基本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2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2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0" name="Object 2"/>
          <p:cNvGraphicFramePr/>
          <p:nvPr/>
        </p:nvGraphicFramePr>
        <p:xfrm>
          <a:off x="395280" y="1268280"/>
          <a:ext cx="8309160" cy="2232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3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268280"/>
                    <a:ext cx="83091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7:53Z</dcterms:modified>
  <cp:revision>79</cp:revision>
  <dc:subject/>
  <dc:title>幻灯片 1</dc:title>
</cp:coreProperties>
</file>